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35040" y="1168560"/>
            <a:ext cx="586728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26186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0260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350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26186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460260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35040" y="1168560"/>
            <a:ext cx="586728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186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0260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50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186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60260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6186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0260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350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26186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460260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35040" y="1168560"/>
            <a:ext cx="586728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6186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0260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350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26186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460260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635040" y="1168560"/>
            <a:ext cx="586728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26186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0260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350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26186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460260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35040" y="1168560"/>
            <a:ext cx="586728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186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260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350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6186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60260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35040" y="1168560"/>
            <a:ext cx="586728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6186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0260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350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6186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460260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35040" y="1168560"/>
            <a:ext cx="586728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6186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0260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350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26186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460260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35040" y="1168560"/>
            <a:ext cx="586728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35040" y="1168560"/>
            <a:ext cx="586728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6186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0260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350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26186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460260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35040" y="1168560"/>
            <a:ext cx="586728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6186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0260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350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26186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460260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35040" y="1168560"/>
            <a:ext cx="586728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6186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0260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350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26186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460260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35040" y="1168560"/>
            <a:ext cx="586728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35040" y="7381440"/>
            <a:ext cx="5867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64176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350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4176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61864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02600" y="47876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350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61864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4602600" y="7381440"/>
            <a:ext cx="188892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695916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818181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9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9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792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792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792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79200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79200">
              <a:spcBef>
                <a:spcPts val="9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47280" y="1130040"/>
            <a:ext cx="58676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5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47280" y="2641320"/>
            <a:ext cx="5867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53352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3520" indent="-3999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5352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352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7352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7352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73520" indent="-3996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772040" y="264132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2804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1712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29492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58364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58364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58364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5796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709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61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7528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14416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14416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14416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6408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274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140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007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18736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18736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18736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818181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818181"/>
              </a:solidFill>
              <a:latin typeface="Gill Sans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9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65520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51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46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42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377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377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377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0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7272"/>
                </a:solidFill>
                <a:latin typeface="Gill Sans"/>
              </a:rPr>
              <a:t>Click to edit the title text format</a:t>
            </a:r>
            <a:endParaRPr b="0" lang="en-US" sz="10900" spc="-1" strike="noStrike">
              <a:solidFill>
                <a:srgbClr val="707272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1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2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3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4" algn="ctr">
              <a:buClr>
                <a:srgbClr val="a7aaab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7aaab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0" name=""/>
          <p:cNvSpPr/>
          <p:nvPr/>
        </p:nvSpPr>
        <p:spPr>
          <a:xfrm>
            <a:off x="1079640" y="4863960"/>
            <a:ext cx="10818720" cy="1800"/>
          </a:xfrm>
          <a:prstGeom prst="line">
            <a:avLst/>
          </a:prstGeom>
          <a:ln w="12600">
            <a:solidFill>
              <a:srgbClr val="a7a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270080" y="264132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072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4960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160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339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763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763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763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8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 flipH="1"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2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hyperlink" Target="http://www.andrejaborin.com/" TargetMode="External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 flipH="1"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1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3151080" y="1712880"/>
            <a:ext cx="6680160" cy="5041800"/>
          </a:xfrm>
          <a:prstGeom prst="rect">
            <a:avLst/>
          </a:prstGeom>
          <a:ln w="0">
            <a:noFill/>
          </a:ln>
          <a:effectLst>
            <a:outerShdw dist="76146" dir="2400819" blurRad="0" rotWithShape="0">
              <a:srgbClr val="000000">
                <a:alpha val="75000"/>
              </a:srgbClr>
            </a:outerShdw>
          </a:effectLst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695916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66"/>
                </a:solidFill>
                <a:latin typeface="Academy Engraved LET"/>
                <a:ea typeface="Academy Engraved LET"/>
              </a:rPr>
              <a:t>ANDREJA BORIN</a:t>
            </a:r>
            <a:endParaRPr b="0" lang="en-US" sz="7200" spc="-1" strike="noStrike">
              <a:solidFill>
                <a:srgbClr val="818181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 flipH="1"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97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739800" y="4584600"/>
            <a:ext cx="5402160" cy="405144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6699240" y="4579920"/>
            <a:ext cx="5400720" cy="40514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5"/>
          <a:stretch/>
        </p:blipFill>
        <p:spPr>
          <a:xfrm>
            <a:off x="542880" y="1498680"/>
            <a:ext cx="7015320" cy="27176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735480" y="4223880"/>
            <a:ext cx="98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Vienn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>
            <a:off x="6655320" y="4223880"/>
            <a:ext cx="136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Budapes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"/>
          <p:cNvSpPr/>
          <p:nvPr/>
        </p:nvSpPr>
        <p:spPr>
          <a:xfrm>
            <a:off x="540000" y="1074240"/>
            <a:ext cx="101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agre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"/>
          <p:cNvSpPr/>
          <p:nvPr/>
        </p:nvSpPr>
        <p:spPr>
          <a:xfrm>
            <a:off x="5203800" y="180360"/>
            <a:ext cx="2612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66"/>
                </a:solidFill>
                <a:latin typeface="Academy Engraved LET"/>
                <a:ea typeface="Academy Engraved LET"/>
              </a:rPr>
              <a:t>JOURNEY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6"/>
          <a:stretch/>
        </p:blipFill>
        <p:spPr>
          <a:xfrm>
            <a:off x="8213760" y="1434960"/>
            <a:ext cx="4245120" cy="28321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8244720" y="1074240"/>
            <a:ext cx="100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the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 flipH="1"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0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1041120" y="2463480"/>
            <a:ext cx="1070604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11080" indent="-4935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nspersonal Psycholog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811080" indent="-4935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lotropic Breathwork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811080" indent="-4935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nergy/Holistic Ps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811080" indent="-4935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gnitive Psycholog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3880800" y="1112400"/>
            <a:ext cx="52585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6666"/>
                </a:solidFill>
                <a:latin typeface="Academy Engraved LET"/>
                <a:ea typeface="Academy Engraved LET"/>
              </a:rPr>
              <a:t>PSYCHOLOG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3"/>
          <a:stretch/>
        </p:blipFill>
        <p:spPr>
          <a:xfrm>
            <a:off x="8956800" y="2533680"/>
            <a:ext cx="3052800" cy="557532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1083960" y="6428880"/>
            <a:ext cx="22456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Dream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6544440" y="6863040"/>
            <a:ext cx="244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Astral Body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>
            <a:off x="6422040" y="2786400"/>
            <a:ext cx="1294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Deat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>
            <a:off x="7459200" y="5592960"/>
            <a:ext cx="1431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Reality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>
            <a:off x="3602520" y="7079040"/>
            <a:ext cx="266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Metaphysic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"/>
          <p:cNvSpPr/>
          <p:nvPr/>
        </p:nvSpPr>
        <p:spPr>
          <a:xfrm>
            <a:off x="3844440" y="6012000"/>
            <a:ext cx="3350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Transforma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>
            <a:off x="1399680" y="7929720"/>
            <a:ext cx="270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Psychedelic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5270400" y="8308440"/>
            <a:ext cx="35974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Pineal Gland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>
            <a:off x="7526160" y="3634920"/>
            <a:ext cx="14011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irth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5730840" y="4361040"/>
            <a:ext cx="771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Lif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6923520" y="4564440"/>
            <a:ext cx="646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A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 flipH="1"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8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5994360" cy="21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66"/>
                </a:solidFill>
                <a:latin typeface="Academy Engraved LET"/>
                <a:ea typeface="Academy Engraved LET"/>
              </a:rPr>
              <a:t>PHOTOGRAPHY</a:t>
            </a:r>
            <a:endParaRPr b="0" lang="en-US" sz="48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8335800" y="7749360"/>
            <a:ext cx="3054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66"/>
                </a:solidFill>
                <a:latin typeface="Academy Engraved LET"/>
                <a:ea typeface="Academy Engraved LET"/>
              </a:rPr>
              <a:t>DRAWING</a:t>
            </a:r>
            <a:r>
              <a:rPr b="0" lang="en-US" sz="4800" spc="-1" strike="noStrike">
                <a:solidFill>
                  <a:srgbClr val="000000"/>
                </a:solidFill>
                <a:latin typeface="Academy Engraved LET"/>
                <a:ea typeface="Academy Engraved LE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1473120" y="2209680"/>
            <a:ext cx="4178520" cy="62103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4"/>
          <a:stretch/>
        </p:blipFill>
        <p:spPr>
          <a:xfrm>
            <a:off x="7607160" y="1371600"/>
            <a:ext cx="4496040" cy="5994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 flipH="1"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635040" y="42667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6666"/>
                </a:solidFill>
                <a:latin typeface="Academy Engraved LET"/>
                <a:ea typeface="Academy Engraved LET"/>
              </a:rPr>
              <a:t>P O E T R 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6450120" y="1523880"/>
            <a:ext cx="5248080" cy="69976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1321560" y="6324480"/>
            <a:ext cx="445788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  <a:hlinkClick r:id="rId4"/>
              </a:rPr>
              <a:t>http://www.andrejaborin.com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 flipH="1">
            <a:off x="11696760" y="291960"/>
            <a:ext cx="144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59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3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0"/>
            <a:ext cx="10464840" cy="228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0000"/>
                </a:solidFill>
                <a:latin typeface="Academy Engraved LET"/>
                <a:ea typeface="Academy Engraved LET"/>
              </a:rPr>
              <a:t>MIND OVER BODY</a:t>
            </a:r>
            <a:endParaRPr b="0" lang="en-US" sz="72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720600" y="2476440"/>
            <a:ext cx="586764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Yoga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port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Vegetarianism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Wate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Breathing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Visualizatio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Imaginatio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hild’s energy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Dream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Will power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Journey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9747360" y="3124080"/>
            <a:ext cx="2933640" cy="36957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412920" y="2695680"/>
            <a:ext cx="2882880" cy="5622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